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511-92E6-46D6-A6F4-18508AFE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1F6-B72E-4E2C-9ED4-E748B0A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E9F12-FC7E-4349-9631-25A19FB6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C8492-925B-4755-87E5-63C37246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76AB3-6FDA-444B-8BDD-0CF92150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3E942-4E3F-4A5D-984B-113FCC0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1E704-1434-49AA-B5A7-A540703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33A9F-FA1A-4C04-A3F1-29A77854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DE5B6-7304-480F-8A70-33C56E6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5677A-156C-4440-81F0-29097F43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8F57B-9BC1-40AC-8AF3-7E182F8F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19710-0553-4AF3-92C2-DD2428B7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4D1-2696-448B-A2BB-A9DEB917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2EFE2-AB9A-4F68-926A-5900D5D4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A48CB-C4C8-4996-AF5A-05B26665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3D9FC-1D45-4855-A492-1F4E4560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A1BDA-426F-4E6D-B927-AB8E187D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D19B1-45EB-409B-969B-B2A2E4A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4B12-C7BC-47F8-918B-B603B7E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FF06E-495F-4177-85EE-8F0A32B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1E8B7-D212-4F03-A384-E7F0DB00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33CCE-A78F-4EEC-A067-24A0E5C6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8A1A3-1E14-42CE-8631-81FD6E88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7AD-BCC9-422E-AF0D-FE6F890A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F83BC-787C-4414-9B5B-E812AC22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E06E6-8E3E-449D-8E4E-F80E074D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D0769-F1F5-4D70-960C-B21D1B49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5925B-1003-4176-B24E-5C0CC72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C306-5C6F-4033-B462-33B43C4C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B660D-5BF4-4C47-9FF3-3B1D620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B7118-FA2E-4FDD-BB05-B9395E06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0BDD-2D4A-44B4-B129-59D114F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FEE52-2D2E-4BE8-A8C5-C375590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9E1CD-D13E-48A2-8ACB-34E2E4A4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D518-9F49-4066-A69D-299A44D5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EA8A3-FE73-438E-8B1A-795130AE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B6CC6-AF1E-4201-950C-15CEA278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CC4B4-1822-46D0-8E97-5F1CC107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00F80-A209-4466-BA1C-5DC244E1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D809D-608A-4101-8643-E8AB3103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3474A-C3B3-4F03-8C53-C883EF39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0B656-B52A-431D-A45F-922950A8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844C6-F296-4677-94D5-B545F53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3DE78-7521-4BF2-8717-E8245F8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CBFC9-135D-4C0D-9DD7-A1ACB70C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1C8-41DD-4B17-8BFF-D5340202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54B62-065E-4E7F-B481-CCC3C5B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5704B-9F7F-4343-9205-AD08F65E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F31A7-323C-4A50-8791-9CFFF5D3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0739E-B9CF-48D4-8910-E31543F2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13071-5C33-4A1C-ACC1-971F3C58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A6BD2-DD5D-432E-924D-888D7C0B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75688-5EAD-4EEC-8C6E-5AB1827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0EA9F-3860-4395-B4EF-46E7E71A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2B1B7-85F2-4F51-B99B-C5C6836C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B60AA-18E3-476A-9F83-6DDA0F5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1819-DB44-4C6A-A9C3-0CC1BC32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06097-770C-4470-9D3D-1F02E410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BA8E4-180F-4FC9-A886-2FC0BDB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7E07C-0DBE-4B06-BB13-136F18F8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90569-5EDD-4800-9D7F-A77C611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65822-7B5A-47CD-88C0-9AD14578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DC3B5-AA49-4B7F-9AB8-71279A25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631F3-B04F-409A-9B33-9FCE9BB3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CB4BB-774B-43CA-B794-5A63CC73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04159-1535-4C16-9414-41915CE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AE5AE-3233-466C-A7B0-2742CB06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24B-AFE4-4933-A7CE-5C544022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3CC6C-7551-4193-9E39-3CC8BBBA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1BDB8-8DBB-43D5-AE8D-76484971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770A7-E925-4889-B41F-C75384C9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743EB-1D21-4E0A-BD25-ECE9743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13353-DC78-4627-8874-AC314E9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B5AED-E9C4-4833-9D13-A5BB647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DF600-6DA6-4CD3-B84C-9588D595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7A74B-C6E0-4F7D-A934-EC2506D0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6066C-311B-49EA-A645-F4F755CF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9A170-63BB-42CA-AFC3-9F7B1CEA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AE1D-8CCE-4EC2-934E-82244A3C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79C16-C27A-47F7-BA4F-5C6C798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FE770-3BF9-4AE4-9B5B-34037C1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15518-794A-4F78-AB3D-2923B635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1DC89-6B02-45F9-A44D-9C0EF746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D055B-D9D3-429A-A01A-97388FB2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B3164-B849-4936-A52A-F68A8560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07BCD-2294-48D8-B9C7-B624782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D8F6A-0A4F-4BC7-89A2-EE992FF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985ED-70F0-4799-AD20-6EC07FB8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D4917-62A5-4DCB-BF4A-79E8C8C0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75EB-BE64-44BF-AD5C-B822458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B001B-F1AF-40DF-911A-165B4DF0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1C9426-5FDA-472A-A677-A645E86C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26BDA-840F-45BA-A586-A509AA1A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A8221-27C2-4517-9CC8-102E68A1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83B04-0772-446D-ADC8-F299089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25B40-2869-485D-A7F5-3044E939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5062E-61F6-4516-AB11-93186771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1B916-7286-4C5C-805E-FC66971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7DBC4-D26B-4EC2-8732-E511414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A8E5E-E5F6-432C-80E2-2C925CE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B6A2-F16C-41D0-99D4-5821D25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47C86-EAC6-41EA-8205-2F641DD1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ABDB7-194D-49E6-9B7F-B366D4F3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B14EE-8D1E-4C9D-BF80-8AF72D12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CB43B-6C01-45A0-B9B7-07A3C9BD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74163-2EAC-455E-88B0-7C06BBA6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21D91-47AF-4D6C-8BA2-BD532872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09949-4FAB-4A09-9B70-11A1A164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E0652-F0E7-4CDE-9A3F-9845F41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0C673-1075-42BC-A630-6CF0430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00C3B-60C3-4963-BEF5-AB9DC17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8E8-21B5-43AF-A42A-BDA5CCF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83A-1778-4DF8-A269-A7A11D6A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F227B-6B55-4082-A3A1-80FADA9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9DAA8-3D8E-4A44-8932-6F9E597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56522-AAFF-4A12-8FC9-5614F211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A069E-2814-4C13-8378-2B94E5E2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9604B7-6A1D-4BC8-B361-D77E2E77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E2D3D-159D-41CE-94EA-0D212326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27AC0-4663-4EE7-9F1D-99ACBEA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816CA-B3B3-4F32-B53B-59A651EF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6C5B1-7AE4-48C8-AA79-E783CB9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A1FA1-8688-4801-8A1A-00AF5632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D5EF-4D23-424F-9E51-7663936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A2078-690B-4216-B2C4-E4DC4C0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6D042-A3DE-4BB8-A386-F307853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AD45E-4768-4DD8-A2D1-F88DD84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36C6F-0A20-4B28-808E-D1E5D14A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8B9AD-F9BC-4C71-AAAD-B5F02C69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40295-7A53-4606-89A4-3EB5F1B1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556E4-BA3F-4CD8-AD21-935CA458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46240-7921-4441-94DE-D60EF021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6E18E-BC23-4594-9DCB-4A0F48ED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F2E64-56C6-48B7-B57C-0640FF84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CB85-68F1-47EB-971E-872D9D68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7ACA2-7ADF-405F-92E8-E3F0B2F5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9104D1-7C54-4D02-857A-060BC23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66BA3-AA99-4FCF-AC1E-26130E08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BFF12-6685-405D-9BC7-B633D6F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D67BD5-6D65-462C-95DC-D8CB8606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5E7D0-95F0-4864-9F7B-8C5F1DE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BD712-6868-4CB8-9B9E-82C25876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91083-231B-4AB9-BEF5-BACCDDD7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9F615-7FB3-4947-A616-E7C39CF9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72405-FE4E-4FEA-97E2-1660811C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E7D8-4E24-4295-88B0-F164A126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C7879-0AF6-43E3-B27A-754D3D8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FF369-8FCC-44DE-A628-DF7A37D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74936-1147-4328-8C93-7AEAAAE3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9A3DD-0CA6-489B-8305-3855C4A8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8992C-FDFE-462D-AFBE-4DA5B5F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B3DF3-E57F-4655-AEDC-D1E458C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9C2B5-B84C-454E-8DE3-9AEE0A87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CBD4E-FACD-4E9E-9EAF-40AA0BFC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9A17C-B9B6-439A-8FCA-4B50E44D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4BEFB-27B5-4C20-B3AF-C99CE72C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468B-6E0C-4CB7-9999-715DA06A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DD0CD-98FE-4A8E-91A2-9EFCDC36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7882C-6F81-4754-8587-09801057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1D080-91F8-4413-BD3A-27B6CC3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2A072-6DD3-4A58-80C4-8654E837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57142-050C-4239-8BE1-33C33830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8BF8C-0E40-4CDE-9396-3503A859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434293-2F05-40CE-99C1-0BA01316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DA9FA2-82D6-4073-B024-1B79D135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997065-3D38-4D99-AC2F-1BE16F04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636BC-7EBF-401D-9EED-FD2E6FA2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4959-A67A-4ED2-9087-E3FA6FB3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17E2BB-6337-4D79-9CAE-B9BB4DF3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C4B5A-40A4-41EA-A196-3378B41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8BC0A0-F4EE-46C4-A287-E03AA584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D49FF-B708-46B6-88BD-6B66F262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4128A7-4623-4175-90AE-0BE6A8C2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FB13D8-E92E-4B97-805F-A407D7FC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553212-A7D4-4576-987A-4364DD62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9A64E9-E7FE-47D2-B069-62EFC793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7B47CD-EF39-4E4C-A38B-DD9FC7B2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48F1C-38DB-470E-8E15-1B5B2DF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90EE-AB1F-4FF6-8717-C7A3CB09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DA58F4-5D74-42B0-BA94-BFFE85E8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91812-A58E-4728-9C30-7D415AF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EF49C2-1524-4D13-A507-550EAA8F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F97346-253F-4A11-B878-D7ACB85A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1B598-5133-4534-A450-DE1D13C3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2DE91-A7B8-4B0C-B54B-30C49ACC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4F9510-7875-498D-9A14-495C92FA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78108-8E89-4B5D-9F30-28C9C2B4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8513AD-777D-4D94-AFB4-8F20B614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351F29-C74A-4EA3-9BD4-70691D41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3A05-6DF7-4EC5-BDC2-89B3C6E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B4D437-25B2-4564-8DAA-9A86E06A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DF6D19-BE9D-4CB3-BE7D-9229CFC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D6F7C0-E325-44EF-8D28-C8E4289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5D08E-4B7F-4ABD-8256-8ED4B07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5D7856-A551-4783-903D-F215C17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E849FD-799D-436E-864D-855DC872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C07F56-7749-4530-84B8-03455B9F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119F-44A9-495B-9A55-70A64CCD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21CF-CE6A-434B-910E-190E0BA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302-60EE-4E7B-8EA7-0FDBA0F7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1BD7-5A99-4AA8-A1A1-572BEF67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A277-2D38-4024-A038-266FAEF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A91C-2936-4863-AC30-1D4C403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CF52-1F50-4165-899A-F5EB98A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E785-09A3-4C0F-8902-76B54241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A600-8299-4F90-83A6-059692F3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CE2D-8D26-448D-953F-84AA5A88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4C50-4F51-4CCC-8444-DFB17A96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6AE6-5703-4013-A529-E2DBF572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1A95-D89E-4242-924B-D3983005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FB8-8824-4353-B341-F95FE9C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3F49-E1A6-4561-BD4D-D03F3186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5C32-83D0-4FB0-B398-EED0493E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6AD8-B0B1-4C8B-B904-2108288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7DA2-7E91-4576-9EE4-400094A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C680-0979-4D43-9B46-972BD96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8610-81AA-4692-B42B-8712CE0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DEAC-DC6C-46AB-906C-731DE926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0C74-9030-44C6-8D39-08C0CE48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278F-FAC6-4203-886B-458E4264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5B67-B040-4FC9-B820-87D140AD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3C1-D30D-4891-ADC3-5FADFF0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E3FB-137D-474F-B3AA-CE10B58A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9A13-BEB6-4BED-8709-2EF1FD0C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9C0B-22A7-46D7-B20B-722E5E18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392A-E6C8-4998-9301-711A9C61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8F3F-BF43-492C-9041-EA641AAE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6282B-64A8-494A-9910-C3D9056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C0BC7-A1E2-4063-988A-D69142DF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CAE9A-DF62-45F6-AE87-EC3FF65B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5AA8-7D19-4660-9C45-C4EF6066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F908-F9FF-47D5-B561-5509F303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C31-C66B-4E8D-BD3B-1656B45A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C21A-B180-41C6-9483-B341EAE1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98DF-3ABE-4762-B14F-FF123A25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2F83-31F2-4494-AF8A-A6FBF249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5C6E-4F26-461E-94E3-C671DFD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0F330-AE34-49C5-9974-94DC3FA4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9E764-1976-43A7-AB83-966B9EA4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177CF-4066-46B6-A812-1617D717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2454-070F-4FBE-844E-FDB177F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03394-5100-4F8F-A22A-61C133C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68AAC-57FF-4551-8BF4-21C323F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C91-D7B4-4761-946F-55FE1691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65040-E5F6-485B-850F-D312DB87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BC040-D3B0-4763-827A-878F8B75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A4A0-6E24-46B0-AE53-D0BCD88C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53A9-3324-4DD9-BAC0-82D08851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6A98-A2BB-4C97-9BA3-E251569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3342-FBB2-4BE9-98E9-720A6162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EC76-F159-4DDB-9D9E-77887166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B77F-1190-4C75-B0A9-7900C7B7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97BEF-22F0-4C92-9E93-0EDE7A5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7DEF5-9381-4E9D-94F4-21E0A26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B28-E4A4-4CFC-929E-F9D57E4A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A52E9-201C-401C-846B-FDC62E8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AE563-54E6-461B-913C-52DECC6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3672-6FBC-4286-818A-5736FA3D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0A79E-F5BA-4E08-9B51-BD77DE90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44689-5713-4CC5-BDD0-7B89230B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2F34C-60A9-4199-AB75-BA34D409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2FAF9-3EAF-4A95-800D-150435E0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AED8A-6C71-4047-89AE-C6EE7BE4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EEF57-D4C1-4BF1-966E-77513365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8115-9A3E-41FC-825D-FA5E51EF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16B-30ED-47A0-AC2E-E311A3B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29B3-1789-41C6-96A8-3B0878F2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DDE1-E403-4C01-9156-02C940F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51F9-0878-4899-9753-E9352E3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41C8F-A5F7-44E2-92AD-61D7531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7F125-AB29-43E0-AD56-E72BAA42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DCC79-2221-4DAE-9D8B-F3564518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A8D73-D864-4954-BEA8-52609249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BAA61-379F-4785-BB6B-9FB4642F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3D592-7C3A-45F7-A5A5-972685A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4A589-61B1-4A2A-BF2F-574BDF17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97B8-D210-48BA-BB8E-598ED08A90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0BBA-B6C7-4FF4-8A71-F51092739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A485-9143-483B-9690-0ECED0232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BB28-0D0B-4B81-A546-A2422FDF0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863A-8BB0-4399-AD91-DE4DA0FF3E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CE27-6BD8-4259-BCDC-A69F121F0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9DB6-B9CB-4962-A9E6-46964824AB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72F8-D50B-4631-B311-DA222F410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E13-1C73-499F-9C21-3683BC916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F6AF-73BA-4CE8-BF00-326DFF1F8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ACE6-5FEF-402E-8899-0F0A454A12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5BD-6EEF-4444-9543-43805F89D7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3C4-E987-4D7E-8AEB-4411349E6D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7EDC-E048-4D08-838B-4ED406E7EB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EC4-5869-4B03-B3D2-A00AF9826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BD0B-80B5-4569-9022-0CF38E5A6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58A-404D-49BB-A656-6A5DF4B73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167-2FDD-4EF0-8BF4-6205671CF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EAA-A1D4-476D-A627-A84810BE9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B3E8-99A2-401F-8CF8-5C0C639D1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778F-F1E3-445A-8DD8-BCA5A5173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34D4-EF0C-41B3-93FE-5DA9306A3B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092-8D9C-4CF5-8DCE-FC6E857983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1CDB-E15E-4798-AFC6-BABC3E22A9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C10-1C0F-425C-A6F7-8641FD475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02EC-FEDE-4A9C-A3B8-CE42AECAC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D2B2-EAF9-4501-95AB-53E313AE4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E546-BEB9-45BD-BAB9-AB8D0948F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8AE-BDB3-4BD3-B1E3-B0B3B7CDD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F866-936B-4997-88D9-A0E09E78F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0885-5A01-4E4D-83F3-90B85DEDA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66D2-80F3-435F-B652-C784FE642A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5A85-E4E9-4295-84E7-E5A5A19DF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4B61-94B5-416B-9486-C74BD913B4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0AF-A7C1-4860-B9E3-5B474FE8F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664D-6E74-46D7-B29F-EFE88D3CB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4968-7E4F-441C-ACC2-3D6D69E9F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B5CF-04EE-48A1-B57F-B65BCF58A4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3289-B4A3-4E7F-A41F-44736A4D2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13C-69DE-4B08-918B-1DA4B2170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C44E-336B-4863-B67C-82F05F9567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837D-761E-43A4-9801-DA74EBA73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857240" y="3057480"/>
            <a:ext cx="54295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76320" y="720720"/>
            <a:ext cx="8991360" cy="11811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74600" y="1994040"/>
            <a:ext cx="7429680" cy="12668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174600" y="3429000"/>
            <a:ext cx="8437680" cy="32958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114444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292428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468360" y="386064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508464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468360" y="5950080"/>
            <a:ext cx="3585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871560" y="2166840"/>
            <a:ext cx="7400880" cy="2524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4427640" y="262404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4500720" y="304956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3708360" y="347184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4572000" y="388944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3276720" y="4321080"/>
            <a:ext cx="863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42840" y="1743120"/>
            <a:ext cx="9056880" cy="3371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4211640" y="218592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1187280" y="261792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1979640" y="301608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1547640" y="346716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1365120" y="431172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1258920" y="4724280"/>
            <a:ext cx="576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76320" y="1123920"/>
            <a:ext cx="8991360" cy="46101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684360" y="1979640"/>
            <a:ext cx="86328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4211640" y="19890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2411280" y="2843280"/>
            <a:ext cx="21607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1476360" y="3673440"/>
            <a:ext cx="79200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2916360" y="3692520"/>
            <a:ext cx="180000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7"/>
          <a:stretch/>
        </p:blipFill>
        <p:spPr>
          <a:xfrm>
            <a:off x="2195640" y="4537080"/>
            <a:ext cx="180000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8"/>
          <a:stretch/>
        </p:blipFill>
        <p:spPr>
          <a:xfrm>
            <a:off x="1403280" y="5380200"/>
            <a:ext cx="180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0:5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